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eme2.wav" ContentType="audio/x-wav"/>
  <Override PartName="/ppt/media/Categories.wav" ContentType="audio/x-wav"/>
  <Override PartName="/ppt/media/Daily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01000" y="655272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Template b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ff"/>
                </a:solidFill>
                <a:latin typeface="Arial"/>
              </a:rPr>
              <a:t>Bill Arcuri, WC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heme2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4.xml"/><Relationship Id="rId5" Type="http://schemas.openxmlformats.org/officeDocument/2006/relationships/slide" Target="slide34.xml"/><Relationship Id="rId6" Type="http://schemas.openxmlformats.org/officeDocument/2006/relationships/slide" Target="slide44.xml"/><Relationship Id="rId7" Type="http://schemas.openxmlformats.org/officeDocument/2006/relationships/slide" Target="slide54.xml"/><Relationship Id="rId8" Type="http://schemas.openxmlformats.org/officeDocument/2006/relationships/slide" Target="slide6.xml"/><Relationship Id="rId9" Type="http://schemas.openxmlformats.org/officeDocument/2006/relationships/slide" Target="slide16.xml"/><Relationship Id="rId10" Type="http://schemas.openxmlformats.org/officeDocument/2006/relationships/slide" Target="slide26.xml"/><Relationship Id="rId11" Type="http://schemas.openxmlformats.org/officeDocument/2006/relationships/slide" Target="slide36.xml"/><Relationship Id="rId12" Type="http://schemas.openxmlformats.org/officeDocument/2006/relationships/slide" Target="slide46.xml"/><Relationship Id="rId13" Type="http://schemas.openxmlformats.org/officeDocument/2006/relationships/slide" Target="slide56.xml"/><Relationship Id="rId14" Type="http://schemas.openxmlformats.org/officeDocument/2006/relationships/slide" Target="slide8.xml"/><Relationship Id="rId15" Type="http://schemas.openxmlformats.org/officeDocument/2006/relationships/slide" Target="slide18.xml"/><Relationship Id="rId16" Type="http://schemas.openxmlformats.org/officeDocument/2006/relationships/slide" Target="slide28.xml"/><Relationship Id="rId17" Type="http://schemas.openxmlformats.org/officeDocument/2006/relationships/slide" Target="slide38.xml"/><Relationship Id="rId18" Type="http://schemas.openxmlformats.org/officeDocument/2006/relationships/slide" Target="slide48.xml"/><Relationship Id="rId19" Type="http://schemas.openxmlformats.org/officeDocument/2006/relationships/slide" Target="slide58.xml"/><Relationship Id="rId20" Type="http://schemas.openxmlformats.org/officeDocument/2006/relationships/slide" Target="slide10.xml"/><Relationship Id="rId21" Type="http://schemas.openxmlformats.org/officeDocument/2006/relationships/slide" Target="slide20.xml"/><Relationship Id="rId22" Type="http://schemas.openxmlformats.org/officeDocument/2006/relationships/slide" Target="slide30.xml"/><Relationship Id="rId23" Type="http://schemas.openxmlformats.org/officeDocument/2006/relationships/slide" Target="slide40.xml"/><Relationship Id="rId24" Type="http://schemas.openxmlformats.org/officeDocument/2006/relationships/slide" Target="slide50.xml"/><Relationship Id="rId25" Type="http://schemas.openxmlformats.org/officeDocument/2006/relationships/slide" Target="slide60.xml"/><Relationship Id="rId26" Type="http://schemas.openxmlformats.org/officeDocument/2006/relationships/slide" Target="slide12.xml"/><Relationship Id="rId27" Type="http://schemas.openxmlformats.org/officeDocument/2006/relationships/slide" Target="slide22.xml"/><Relationship Id="rId28" Type="http://schemas.openxmlformats.org/officeDocument/2006/relationships/slide" Target="slide32.xml"/><Relationship Id="rId29" Type="http://schemas.openxmlformats.org/officeDocument/2006/relationships/slide" Target="slide42.xml"/><Relationship Id="rId30" Type="http://schemas.openxmlformats.org/officeDocument/2006/relationships/slide" Target="slide52.xml"/><Relationship Id="rId31" Type="http://schemas.openxmlformats.org/officeDocument/2006/relationships/slide" Target="slide62.xml"/><Relationship Id="rId32" Type="http://schemas.openxmlformats.org/officeDocument/2006/relationships/audio" Target="../media/Categories.wav"/><Relationship Id="rId33" Type="http://schemas.openxmlformats.org/officeDocument/2006/relationships/audio" Target="../media/Categories.wav"/><Relationship Id="rId3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aily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theme2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752480" y="2666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ce to Beg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JEOPARDY!</a:t>
            </a:r>
            <a:endParaRPr b="0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ame show temp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hem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1-4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1-4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1-5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1-5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2-1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2-1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2-2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2-2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2-3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2-3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304920"/>
            <a:ext cx="67057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ff"/>
                </a:solidFill>
                <a:uFillTx/>
                <a:latin typeface="Benguiat Frisky"/>
                <a:hlinkClick r:id="rId1" action="ppaction://hlinksldjump"/>
              </a:rPr>
              <a:t>JEOPARDY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8272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8456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8640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5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8788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6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27432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7" action="ppaction://hlinksldjump"/>
              </a:rPr>
              <a:t>1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8272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9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8456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0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8640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1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788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352440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3" action="ppaction://hlinksldjump"/>
              </a:rPr>
              <a:t>2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8272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8456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8640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788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43052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0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8272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1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8456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2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640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3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8788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4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508644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5" action="ppaction://hlinksldjump"/>
              </a:rPr>
              <a:t>4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8272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8456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8640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8788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0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5867280"/>
            <a:ext cx="130968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hlinkClick r:id="rId31" action="ppaction://hlinksldjump"/>
              </a:rPr>
              <a:t>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ategory 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8272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ategory 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8456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ategory 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8640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ategory 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87880" y="1447920"/>
            <a:ext cx="132588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ategory 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91520" y="1447920"/>
            <a:ext cx="1325520" cy="1096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ategory 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tegori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tegori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8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2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9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6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3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7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2-4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2-4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2-5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2-5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3-1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3-1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3-2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3-2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3-3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3-3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828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Daily Double Graphic and Sound Effect!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32004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DO NOT DELETE THIS SLIDE!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Deleting it may cause the game links to work improperly.  This slide is hidden during the game, and WILL not appea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slide view mode, copy the above (red) graphic (click once to select; right click the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order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and choose “copy”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te the answer slide which you want to be the daily dou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ight-click and choose “paste”.  If necessary, reposition the graphic so that it does not cover the answer tex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609480"/>
            <a:ext cx="6324840" cy="10083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Daily Double!!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3-4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3-4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3-5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3-5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4-1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4-1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4-2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4-2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4-3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4-3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1-1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4-4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4-4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4-5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4-5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5-1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5-1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5-2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5-2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5-3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5-3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1-1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5-4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5-4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5-5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5-5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6-1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6-1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6-2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6-2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6-3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6-3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1-2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6-4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6-4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6-5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6-5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inal Jeopardy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52480" y="2666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ce to Beg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JEOPARDY Question!</a:t>
            </a:r>
            <a:endParaRPr b="0" lang="en-US" sz="8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heme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1-2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nswer 1-3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 1-300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620120" y="5791320"/>
            <a:ext cx="1066680" cy="609480"/>
          </a:xfrm>
          <a:custGeom>
            <a:avLst/>
            <a:gdLst>
              <a:gd name="textAreaLeft" fmla="*/ 95040 w 1066680"/>
              <a:gd name="textAreaRight" fmla="*/ 971640 w 1066680"/>
              <a:gd name="textAreaTop" fmla="*/ 95040 h 609480"/>
              <a:gd name="textAreaBottom" fmla="*/ 514440 h 60948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4419" y="3375"/>
                </a:lnTo>
                <a:lnTo>
                  <a:pt x="3375" y="3375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4419" y="18225"/>
                </a:lnTo>
                <a:lnTo>
                  <a:pt x="34419" y="3375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34419" y="18225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7794" h="21600">
                <a:moveTo>
                  <a:pt x="13362" y="10800"/>
                </a:moveTo>
                <a:lnTo>
                  <a:pt x="24431" y="5266"/>
                </a:lnTo>
                <a:lnTo>
                  <a:pt x="24431" y="16334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5T02:28:20Z</dcterms:created>
  <dc:creator>Bill Arcuri</dc:creator>
  <dc:description/>
  <dc:language>en-US</dc:language>
  <cp:lastModifiedBy>Dorothy</cp:lastModifiedBy>
  <dcterms:modified xsi:type="dcterms:W3CDTF">2008-04-23T12:05:34Z</dcterms:modified>
  <cp:revision>14</cp:revision>
  <dc:subject/>
  <dc:title>No Slide Title</dc:title>
</cp:coreProperties>
</file>